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F7B0-D4E3-4A9E-BA36-DAFD0864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1C2D-A13A-48BF-AD7D-8E4CF80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C206-69E9-4311-9242-372C4375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B1E8-7D6A-4F96-A127-AA8BFB48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31C-9802-460F-ADE6-FB55AFF0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CAB4-8E23-459D-AF41-0669BB05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7866-4D62-40A0-8FA9-529E153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3174-A867-411E-AC4C-3AAE1CC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6C0-7471-4B31-BFEE-A68D03C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6990-5B28-47D8-8EE9-6FA0956E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9A74-7B61-460D-AB1B-D87AACF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38A5-B520-4632-BF44-2E21BF51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7AA-9932-4694-9859-0C38C6C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A00E-134E-4B56-A963-7E46C4A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ED7-2DBE-4ED6-AC23-4D5F5AA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1E51-3F96-46C5-99D8-EB652F8C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DBF3-DFD5-4649-86AF-F22F91EA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EBC7-AC9E-4C4D-A3F6-E9261524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6255-60E7-4E78-856E-E9FECCF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FBE5-CF6E-4C1C-B65A-3B5CC17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26CA-889A-434E-BB8B-018E3DE3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2658-32FA-4ACE-808C-652F955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A06E-2AC3-40AC-A34A-82D9F06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1094-5B48-4827-8E76-12CF281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4EAB-757F-4508-8097-8892156F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20A-4889-4459-8387-538474D65C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postrophe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cant read the teacher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can’t read the teacher’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can’t read the teachers’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cant read the teacher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read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eacher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can’t read the teachers’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’s getting the cake for Dad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 getting the cake for Dad’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’s getting the cake for Dad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’s getting the cake for Dad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 getting the cake for Dad’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getting the cake fo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ad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l of Charles students received A’s las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ll of Charles students received As las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l of Charles’ student’s received A’s las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ll of Charles students received A’s las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ll of Charles students received As las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ll of Charles’ student’s received A’s las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correct revision i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ll of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harles’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tudent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received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’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last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semeste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’s no way I can pay this month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s no way I can pay this month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re’s no way I can pay this month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re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no way I can pay th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month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s no way I can pay this month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re’s no way I can pay this month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dogs name is Oliver; he’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dog’s name is Oliver; he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dog’s name is Oliver; he’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dogs name is Oliver; he’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dog’s name is Oliver; he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M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og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name is Oliver;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e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apostrophe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ostroph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show ownership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ayden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dog, Lis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pu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show that a letter (or letters) have been left out of two words that have been joined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+ am = I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; that + is = that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, et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make letters and numbers plural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size 10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are all g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form possessives of time nouns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is yea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TV shows are worse than ev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ose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o’s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don’t know whose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ose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o’s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o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know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any toddlers can’t pronounce V’s or S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any toddler’s can’t pronounce V’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any toddlers can’t pronounce Vs or 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Man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oddler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ronounc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V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any toddler’s can’t pronounce V’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any toddlers can’t pronounce Vs or 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ren’t the boys Halloween costum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rent the boys Halloween costum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ren’t the boys’ Halloween costume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ren’t the boys Halloween costum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nt the boys Halloween costum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n’t the boys’ Halloween costume’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correct revision i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ren’t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the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oys’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Halloween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stume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frightening?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a singular noun to show ownership, even if the noun already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ill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 house, Chr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 c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 noun is plural and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just add an apostrophe to show ownership. If it is plural but does not end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girl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ho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more than one girl)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children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 clot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use an apostrophe to form the plural of a no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The play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 hudd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CT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yers hudd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use an apostrophe with a possessive pronoun (li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r, yours, ou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RECT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like your yard better than ou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 like your yard better than ou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writing a contraction, put an apostrophe where the letters have been left out, not between two wor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does’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doesn’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don’t know whether he wears size 10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r size 12’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o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know whether he wears siz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10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r siz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12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John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hn’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John’s car was much faster than their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John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hn’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John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car was much faster tha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ir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6:22:11Z</dcterms:modified>
  <cp:revision>175</cp:revision>
  <dc:subject/>
  <dc:title>Sentence Fragments</dc:title>
</cp:coreProperties>
</file>